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9F0-686B-4D18-A245-1F1FB6D1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C5B-E0E7-4441-BEC8-6C85AFE7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C20-5AF0-4854-A954-3AD34E21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267-5DE1-4521-9B96-68324834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F6B-D6FF-487F-8C1C-A0984C11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A1E-9F0C-47B8-BE74-18B44F13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AF8-9E31-4C17-8742-C4A5508F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3D9-69EF-4E0D-A52A-B71E2036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556-9DF1-46AF-B7C5-A9865203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8BF-4695-4180-8361-F31C210F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1E6-AE6D-45DE-A1A2-836A4393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30B-714B-4132-8318-43EDE54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2E21-3709-44B8-AAFA-6D5D621CA4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+ některé činnosti spadající do okruh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, a další aktivity okruhu A, pokud jsou zaměřené na konkrétní zaměstnavatele (tj. nepřenositelné na jiné podni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podpora de minimis veřejnou podporou, neboť z důvodu své bagatelní výše nemůže ovlivnit obchod mezi členskými státy a  ani narušit hospodářskou soutěž, a nesplňuje tak všechny čtyři znaky veřejné podpory 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360"/>
            <a:ext cx="8439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76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„Rozdělení veřejné podpory a soukromého financování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dnikatelských aktivit cílové skupiny</a:t>
            </a:r>
            <a:r>
              <a:rPr b="0" lang="en-US" sz="1800" spc="-1" strike="noStrike">
                <a:solidFill>
                  <a:srgbClr val="143f7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ání mzdových příspěvků + některé činnosti spadající do okruhu 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76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08T12:20:51Z</dcterms:modified>
  <cp:revision>284</cp:revision>
  <dc:subject/>
  <dc:title>Snímek 1</dc:title>
</cp:coreProperties>
</file>